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736D6-8810-4227-B76A-2354EB37A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148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DAFF0-DD6E-4872-A41C-B3275D5BB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BE6F9-7CB4-415C-9978-5432186DE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2923C-2019-4AFF-A861-B3C3EF02E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F5880-C0DD-4945-B732-643F2F7EA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310B7-95DB-4D40-A838-C64003163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1A2E9-A79C-49A2-915D-F26F3995F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1ECE3-C959-448B-9DFC-C7B96AD41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FEC9C-0F1F-4B17-BFB2-26252C9E0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FDC3F-EFAA-447B-81F2-EEA4F8A0C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8D65A-08D1-4946-B2E7-62E10EBF6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65B3B-11A5-473F-B2D0-45FD6AD56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F17D99-0381-4361-9B6A-6D570C66EA6C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29920" y="200160"/>
            <a:ext cx="9070920" cy="11714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DECADE OF THE 1940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529920" y="1639800"/>
            <a:ext cx="9070920" cy="4989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571680" y="1600200"/>
            <a:ext cx="3085920" cy="2514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7315200" y="1600200"/>
            <a:ext cx="2286000" cy="50292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3657600" y="1600200"/>
            <a:ext cx="3657600" cy="50292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571680" y="3886200"/>
            <a:ext cx="3085920" cy="274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6948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94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26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dcff"/>
                </a:solidFill>
                <a:latin typeface="Arial"/>
              </a:rPr>
              <a:t>An earthquake hit Ashgabat on October 6, 1948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dcff"/>
                </a:solidFill>
                <a:latin typeface="Arial"/>
              </a:rPr>
              <a:t>It had a magnitude of 7.3M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dcff"/>
                </a:solidFill>
                <a:latin typeface="Arial"/>
              </a:rPr>
              <a:t>Known to be the 6</a:t>
            </a:r>
            <a:r>
              <a:rPr b="1" lang="en-US" sz="3200" spc="-1" strike="noStrike" baseline="33000">
                <a:solidFill>
                  <a:srgbClr val="00dcff"/>
                </a:solidFill>
                <a:latin typeface="Arial"/>
              </a:rPr>
              <a:t>th</a:t>
            </a:r>
            <a:r>
              <a:rPr b="1" lang="en-US" sz="3200" spc="-1" strike="noStrike">
                <a:solidFill>
                  <a:srgbClr val="00dcff"/>
                </a:solidFill>
                <a:latin typeface="Arial"/>
              </a:rPr>
              <a:t> deadliest earthquake in mankind's histo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dcff"/>
                </a:solidFill>
                <a:latin typeface="Arial"/>
              </a:rPr>
              <a:t>It occurred at precisely 2:17 in the morning, killing over 110,000 innocent civilia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dcff"/>
                </a:solidFill>
                <a:latin typeface="Arial"/>
              </a:rPr>
              <a:t>The Red Army helped to aid the remaining victims of the devastating earthquake.</a:t>
            </a:r>
            <a:r>
              <a:rPr b="0" lang="en-US" sz="3200" spc="-1" strike="noStrike">
                <a:solidFill>
                  <a:srgbClr val="00dc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6948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94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26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large earthquake struck Ambato on August 5, 1949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t measured a M6.8, and killed over 6,000 civilians along with many more civilians losing everything they owned even their hom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 many civilians died that there weren't enough spaces in the city's central cemeta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26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Http://www.bing.co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94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584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541440"/>
                <a:tab algn="l" pos="998640"/>
                <a:tab algn="l" pos="1455840"/>
                <a:tab algn="l" pos="1913040"/>
                <a:tab algn="l" pos="2370240"/>
                <a:tab algn="l" pos="2827440"/>
                <a:tab algn="l" pos="3284640"/>
                <a:tab algn="l" pos="3741840"/>
                <a:tab algn="l" pos="4199040"/>
                <a:tab algn="l" pos="4656240"/>
                <a:tab algn="l" pos="5113440"/>
                <a:tab algn="l" pos="5570640"/>
                <a:tab algn="l" pos="6027840"/>
                <a:tab algn="l" pos="6485040"/>
                <a:tab algn="l" pos="6942240"/>
                <a:tab algn="l" pos="7399440"/>
                <a:tab algn="l" pos="7856640"/>
                <a:tab algn="l" pos="8313840"/>
                <a:tab algn="l" pos="8771040"/>
                <a:tab algn="l" pos="922824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Battle of Britain began, August/ September 194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541440"/>
                <a:tab algn="l" pos="998640"/>
                <a:tab algn="l" pos="1455840"/>
                <a:tab algn="l" pos="1913040"/>
                <a:tab algn="l" pos="2370240"/>
                <a:tab algn="l" pos="2827440"/>
                <a:tab algn="l" pos="3284640"/>
                <a:tab algn="l" pos="3741840"/>
                <a:tab algn="l" pos="4199040"/>
                <a:tab algn="l" pos="4656240"/>
                <a:tab algn="l" pos="5113440"/>
                <a:tab algn="l" pos="5570640"/>
                <a:tab algn="l" pos="6027840"/>
                <a:tab algn="l" pos="6485040"/>
                <a:tab algn="l" pos="6942240"/>
                <a:tab algn="l" pos="7399440"/>
                <a:tab algn="l" pos="7856640"/>
                <a:tab algn="l" pos="8313840"/>
                <a:tab algn="l" pos="8771040"/>
                <a:tab algn="l" pos="922824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3200" spc="-1" strike="noStrike" baseline="33000">
                <a:solidFill>
                  <a:srgbClr val="000000"/>
                </a:solidFill>
                <a:latin typeface="Arial"/>
              </a:rPr>
              <a:t>s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battle to be fought entirely in the air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151600" y="1768320"/>
            <a:ext cx="4425840" cy="4956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5029200" y="1714680"/>
            <a:ext cx="4572000" cy="4686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94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541440"/>
                <a:tab algn="l" pos="998640"/>
                <a:tab algn="l" pos="1455840"/>
                <a:tab algn="l" pos="1913040"/>
                <a:tab algn="l" pos="2370240"/>
                <a:tab algn="l" pos="2827440"/>
                <a:tab algn="l" pos="3284640"/>
                <a:tab algn="l" pos="3741840"/>
                <a:tab algn="l" pos="4199040"/>
                <a:tab algn="l" pos="4656240"/>
                <a:tab algn="l" pos="5113440"/>
                <a:tab algn="l" pos="5570640"/>
                <a:tab algn="l" pos="6027840"/>
                <a:tab algn="l" pos="6485040"/>
                <a:tab algn="l" pos="6942240"/>
                <a:tab algn="l" pos="7399440"/>
                <a:tab algn="l" pos="7856640"/>
                <a:tab algn="l" pos="8313840"/>
                <a:tab algn="l" pos="8771040"/>
                <a:tab algn="l" pos="922824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ttack on Pearl Harbor was devastating, over 3,000 innocent peoples lives were take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541440"/>
                <a:tab algn="l" pos="998640"/>
                <a:tab algn="l" pos="1455840"/>
                <a:tab algn="l" pos="1913040"/>
                <a:tab algn="l" pos="2370240"/>
                <a:tab algn="l" pos="2827440"/>
                <a:tab algn="l" pos="3284640"/>
                <a:tab algn="l" pos="3741840"/>
                <a:tab algn="l" pos="4199040"/>
                <a:tab algn="l" pos="4656240"/>
                <a:tab algn="l" pos="5113440"/>
                <a:tab algn="l" pos="5570640"/>
                <a:tab algn="l" pos="6027840"/>
                <a:tab algn="l" pos="6485040"/>
                <a:tab algn="l" pos="6942240"/>
                <a:tab algn="l" pos="7399440"/>
                <a:tab algn="l" pos="7856640"/>
                <a:tab algn="l" pos="8313840"/>
                <a:tab algn="l" pos="8771040"/>
                <a:tab algn="l" pos="922824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Pearl Harbor attack was what brought the US into WW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541440"/>
                <a:tab algn="l" pos="998640"/>
                <a:tab algn="l" pos="1455840"/>
                <a:tab algn="l" pos="1913040"/>
                <a:tab algn="l" pos="2370240"/>
                <a:tab algn="l" pos="2827440"/>
                <a:tab algn="l" pos="3284640"/>
                <a:tab algn="l" pos="3741840"/>
                <a:tab algn="l" pos="4199040"/>
                <a:tab algn="l" pos="4656240"/>
                <a:tab algn="l" pos="5113440"/>
                <a:tab algn="l" pos="5570640"/>
                <a:tab algn="l" pos="6027840"/>
                <a:tab algn="l" pos="6485040"/>
                <a:tab algn="l" pos="6942240"/>
                <a:tab algn="l" pos="7399440"/>
                <a:tab algn="l" pos="7856640"/>
                <a:tab algn="l" pos="8313840"/>
                <a:tab algn="l" pos="8771040"/>
                <a:tab algn="l" pos="922824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date that will live in infamy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94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541440"/>
                <a:tab algn="l" pos="998640"/>
                <a:tab algn="l" pos="1455840"/>
                <a:tab algn="l" pos="1913040"/>
                <a:tab algn="l" pos="2370240"/>
                <a:tab algn="l" pos="2827440"/>
                <a:tab algn="l" pos="3284640"/>
                <a:tab algn="l" pos="3741840"/>
                <a:tab algn="l" pos="4199040"/>
                <a:tab algn="l" pos="4656240"/>
                <a:tab algn="l" pos="5113440"/>
                <a:tab algn="l" pos="5570640"/>
                <a:tab algn="l" pos="6027840"/>
                <a:tab algn="l" pos="6485040"/>
                <a:tab algn="l" pos="6942240"/>
                <a:tab algn="l" pos="7399440"/>
                <a:tab algn="l" pos="7856640"/>
                <a:tab algn="l" pos="8313840"/>
                <a:tab algn="l" pos="8771040"/>
                <a:tab algn="l" pos="922824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Battle of Stalingrad was the turning point in WW2 in Europ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541440"/>
                <a:tab algn="l" pos="998640"/>
                <a:tab algn="l" pos="1455840"/>
                <a:tab algn="l" pos="1913040"/>
                <a:tab algn="l" pos="2370240"/>
                <a:tab algn="l" pos="2827440"/>
                <a:tab algn="l" pos="3284640"/>
                <a:tab algn="l" pos="3741840"/>
                <a:tab algn="l" pos="4199040"/>
                <a:tab algn="l" pos="4656240"/>
                <a:tab algn="l" pos="5113440"/>
                <a:tab algn="l" pos="5570640"/>
                <a:tab algn="l" pos="6027840"/>
                <a:tab algn="l" pos="6485040"/>
                <a:tab algn="l" pos="6942240"/>
                <a:tab algn="l" pos="7399440"/>
                <a:tab algn="l" pos="7856640"/>
                <a:tab algn="l" pos="8313840"/>
                <a:tab algn="l" pos="8771040"/>
                <a:tab algn="l" pos="922824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battle was fought in the winter of 1942-194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94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23440" y="142200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541440"/>
                <a:tab algn="l" pos="998640"/>
                <a:tab algn="l" pos="1455840"/>
                <a:tab algn="l" pos="1913040"/>
                <a:tab algn="l" pos="2370240"/>
                <a:tab algn="l" pos="2827440"/>
                <a:tab algn="l" pos="3284640"/>
                <a:tab algn="l" pos="3741840"/>
                <a:tab algn="l" pos="4199040"/>
                <a:tab algn="l" pos="4656240"/>
                <a:tab algn="l" pos="5113440"/>
                <a:tab algn="l" pos="5570640"/>
                <a:tab algn="l" pos="6027840"/>
                <a:tab algn="l" pos="6485040"/>
                <a:tab algn="l" pos="6942240"/>
                <a:tab algn="l" pos="7399440"/>
                <a:tab algn="l" pos="7856640"/>
                <a:tab algn="l" pos="8313840"/>
                <a:tab algn="l" pos="8771040"/>
                <a:tab algn="l" pos="922824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Jean Moulin died on July 8, 1943 and was born on June 20, 1899 in Belziers, Fra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541440"/>
                <a:tab algn="l" pos="998640"/>
                <a:tab algn="l" pos="1455840"/>
                <a:tab algn="l" pos="1913040"/>
                <a:tab algn="l" pos="2370240"/>
                <a:tab algn="l" pos="2827440"/>
                <a:tab algn="l" pos="3284640"/>
                <a:tab algn="l" pos="3741840"/>
                <a:tab algn="l" pos="4199040"/>
                <a:tab algn="l" pos="4656240"/>
                <a:tab algn="l" pos="5113440"/>
                <a:tab algn="l" pos="5570640"/>
                <a:tab algn="l" pos="6027840"/>
                <a:tab algn="l" pos="6485040"/>
                <a:tab algn="l" pos="6942240"/>
                <a:tab algn="l" pos="7399440"/>
                <a:tab algn="l" pos="7856640"/>
                <a:tab algn="l" pos="8313840"/>
                <a:tab algn="l" pos="8771040"/>
                <a:tab algn="l" pos="922824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fter much persuasion, Moulin got 8 major resistance groups to form a group known as the Conseil National de la Resista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94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541440"/>
                <a:tab algn="l" pos="998640"/>
                <a:tab algn="l" pos="1455840"/>
                <a:tab algn="l" pos="1913040"/>
                <a:tab algn="l" pos="2370240"/>
                <a:tab algn="l" pos="2827440"/>
                <a:tab algn="l" pos="3284640"/>
                <a:tab algn="l" pos="3741840"/>
                <a:tab algn="l" pos="4199040"/>
                <a:tab algn="l" pos="4656240"/>
                <a:tab algn="l" pos="5113440"/>
                <a:tab algn="l" pos="5570640"/>
                <a:tab algn="l" pos="6027840"/>
                <a:tab algn="l" pos="6485040"/>
                <a:tab algn="l" pos="6942240"/>
                <a:tab algn="l" pos="7399440"/>
                <a:tab algn="l" pos="7856640"/>
                <a:tab algn="l" pos="8313840"/>
                <a:tab algn="l" pos="8771040"/>
                <a:tab algn="l" pos="922824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-Day, AKA “Operation Overlord”, included 5,000 ships as well as 800planes dropping nearly 13,000 people in parachu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541440"/>
                <a:tab algn="l" pos="998640"/>
                <a:tab algn="l" pos="1455840"/>
                <a:tab algn="l" pos="1913040"/>
                <a:tab algn="l" pos="2370240"/>
                <a:tab algn="l" pos="2827440"/>
                <a:tab algn="l" pos="3284640"/>
                <a:tab algn="l" pos="3741840"/>
                <a:tab algn="l" pos="4199040"/>
                <a:tab algn="l" pos="4656240"/>
                <a:tab algn="l" pos="5113440"/>
                <a:tab algn="l" pos="5570640"/>
                <a:tab algn="l" pos="6027840"/>
                <a:tab algn="l" pos="6485040"/>
                <a:tab algn="l" pos="6942240"/>
                <a:tab algn="l" pos="7399440"/>
                <a:tab algn="l" pos="7856640"/>
                <a:tab algn="l" pos="8313840"/>
                <a:tab algn="l" pos="8771040"/>
                <a:tab algn="l" pos="922824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other 300 planes bombed German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629080" y="4343400"/>
            <a:ext cx="4457520" cy="299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2920" y="282240"/>
            <a:ext cx="9069480" cy="12999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94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5840" cy="5375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541440"/>
                <a:tab algn="l" pos="998640"/>
                <a:tab algn="l" pos="1455840"/>
                <a:tab algn="l" pos="1913040"/>
                <a:tab algn="l" pos="2370240"/>
                <a:tab algn="l" pos="2827440"/>
                <a:tab algn="l" pos="3284640"/>
                <a:tab algn="l" pos="3741840"/>
                <a:tab algn="l" pos="4199040"/>
                <a:tab algn="l" pos="4656240"/>
                <a:tab algn="l" pos="5113440"/>
                <a:tab algn="l" pos="5570640"/>
                <a:tab algn="l" pos="6027840"/>
                <a:tab algn="l" pos="6485040"/>
                <a:tab algn="l" pos="6942240"/>
                <a:tab algn="l" pos="7399440"/>
                <a:tab algn="l" pos="7856640"/>
                <a:tab algn="l" pos="8313840"/>
                <a:tab algn="l" pos="8771040"/>
                <a:tab algn="l" pos="922824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olf Hitler was the leader of the Nazis Par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541440"/>
                <a:tab algn="l" pos="998640"/>
                <a:tab algn="l" pos="1455840"/>
                <a:tab algn="l" pos="1913040"/>
                <a:tab algn="l" pos="2370240"/>
                <a:tab algn="l" pos="2827440"/>
                <a:tab algn="l" pos="3284640"/>
                <a:tab algn="l" pos="3741840"/>
                <a:tab algn="l" pos="4199040"/>
                <a:tab algn="l" pos="4656240"/>
                <a:tab algn="l" pos="5113440"/>
                <a:tab algn="l" pos="5570640"/>
                <a:tab algn="l" pos="6027840"/>
                <a:tab algn="l" pos="6485040"/>
                <a:tab algn="l" pos="6942240"/>
                <a:tab algn="l" pos="7399440"/>
                <a:tab algn="l" pos="7856640"/>
                <a:tab algn="l" pos="8313840"/>
                <a:tab algn="l" pos="8771040"/>
                <a:tab algn="l" pos="922824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olf Hitler committed suicide on April 30, 1945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541440"/>
                <a:tab algn="l" pos="998640"/>
                <a:tab algn="l" pos="1455840"/>
                <a:tab algn="l" pos="1913040"/>
                <a:tab algn="l" pos="2370240"/>
                <a:tab algn="l" pos="2827440"/>
                <a:tab algn="l" pos="3284640"/>
                <a:tab algn="l" pos="3741840"/>
                <a:tab algn="l" pos="4199040"/>
                <a:tab algn="l" pos="4656240"/>
                <a:tab algn="l" pos="5113440"/>
                <a:tab algn="l" pos="5570640"/>
                <a:tab algn="l" pos="6027840"/>
                <a:tab algn="l" pos="6485040"/>
                <a:tab algn="l" pos="6942240"/>
                <a:tab algn="l" pos="7399440"/>
                <a:tab algn="l" pos="7856640"/>
                <a:tab algn="l" pos="8313840"/>
                <a:tab algn="l" pos="8771040"/>
                <a:tab algn="l" pos="922824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itler also killed his wife, whom he had married the night before this historic incid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5048280" y="1600200"/>
            <a:ext cx="4552920" cy="54864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5149800" y="1768320"/>
            <a:ext cx="4425840" cy="501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58400" cy="754380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94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69480" cy="6099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944794"/>
                </a:solidFill>
                <a:latin typeface="Arial"/>
              </a:rPr>
              <a:t>Sir Winston Churchill gave his well-known speech, “Iron Curtain” at Westminster College located in Fulton, Missour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944794"/>
                </a:solidFill>
                <a:latin typeface="Arial"/>
              </a:rPr>
              <a:t>His father was Lord Randolph Churchi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944794"/>
                </a:solidFill>
                <a:latin typeface="Arial"/>
              </a:rPr>
              <a:t>Sir Winston Churchill was a prime minister, statesman, biographer, painter, historian, and sold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28440" y="0"/>
            <a:ext cx="10050480" cy="755964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6948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94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26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esident Harry S. Truman asked $400 million for military and economic assistance for the countries of Greece and Turkey on March 12, 1947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ruman was born on May 8, 1884 and died on December 26, 197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2T12:16:25Z</dcterms:created>
  <dc:creator/>
  <dc:description/>
  <dc:language>en-US</dc:language>
  <cp:lastModifiedBy/>
  <cp:revision>1</cp:revision>
  <dc:subject/>
  <dc:title/>
</cp:coreProperties>
</file>